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6172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080" y="3618720"/>
            <a:ext cx="8271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36360" y="97740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9808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36360" y="3618720"/>
            <a:ext cx="40359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9456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91040" y="97740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29808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09456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91040" y="3618720"/>
            <a:ext cx="26629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231480" y="6521400"/>
            <a:ext cx="454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89c9"/>
                </a:solidFill>
                <a:latin typeface="Arial"/>
              </a:rPr>
              <a:t>Copyright © 2006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298440" y="258840"/>
            <a:ext cx="8586720" cy="0"/>
          </a:xfrm>
          <a:prstGeom prst="line">
            <a:avLst/>
          </a:prstGeom>
          <a:ln w="38160">
            <a:solidFill>
              <a:srgbClr val="d9e3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93760" y="225360"/>
            <a:ext cx="858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Leslie Austin\Desktop\HAP7e IP Links Design\35910Marieb7e_lores.jpg"/>
          <p:cNvPicPr/>
          <p:nvPr/>
        </p:nvPicPr>
        <p:blipFill>
          <a:blip r:embed="rId2"/>
          <a:stretch/>
        </p:blipFill>
        <p:spPr>
          <a:xfrm>
            <a:off x="0" y="0"/>
            <a:ext cx="5425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5334120" y="0"/>
            <a:ext cx="3043080" cy="6858000"/>
          </a:xfrm>
          <a:prstGeom prst="flowChartDelay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17320" y="6483240"/>
            <a:ext cx="454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e30d"/>
                </a:solidFill>
                <a:latin typeface="Arial"/>
              </a:rPr>
              <a:t>Copyright © 2006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12080" y="4135320"/>
            <a:ext cx="253080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to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amp; 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e30d"/>
                </a:solidFill>
                <a:latin typeface="Arial"/>
              </a:rPr>
              <a:t>SEVEN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360" y="352440"/>
            <a:ext cx="224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ine N. Mari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tja Hoeh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308560" y="0"/>
            <a:ext cx="3835440" cy="6858000"/>
          </a:xfrm>
          <a:prstGeom prst="rect">
            <a:avLst/>
          </a:prstGeom>
          <a:solidFill>
            <a:srgbClr val="098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5530680" y="3268800"/>
            <a:ext cx="3613320" cy="0"/>
          </a:xfrm>
          <a:prstGeom prst="line">
            <a:avLst/>
          </a:prstGeom>
          <a:ln w="57240">
            <a:solidFill>
              <a:srgbClr val="d9e30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e30d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d9e30d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d9e30d"/>
                </a:solidFill>
                <a:latin typeface="Arial"/>
              </a:rPr>
              <a:t> Lecture Slides</a:t>
            </a:r>
            <a:r>
              <a:rPr b="0" lang="en-US" sz="2000" spc="-1" strike="noStrike">
                <a:solidFill>
                  <a:srgbClr val="08a5c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5307120" y="0"/>
            <a:ext cx="0" cy="6858000"/>
          </a:xfrm>
          <a:prstGeom prst="line">
            <a:avLst/>
          </a:prstGeom>
          <a:ln w="457200">
            <a:solidFill>
              <a:srgbClr val="d9e3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 rot="16200000">
            <a:off x="4782960" y="22791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e30d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874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98440" y="977400"/>
            <a:ext cx="405936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10080" y="977400"/>
            <a:ext cx="405936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sotope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98440" y="977760"/>
            <a:ext cx="802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 algn="ctr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s with same number of protons but a different number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Content Placeholder 5" descr="isotopes.jpg"/>
          <p:cNvPicPr/>
          <p:nvPr/>
        </p:nvPicPr>
        <p:blipFill>
          <a:blip r:embed="rId1"/>
          <a:srcRect l="0" t="2061" r="0" b="45406"/>
          <a:stretch/>
        </p:blipFill>
        <p:spPr>
          <a:xfrm>
            <a:off x="2884320" y="2782800"/>
            <a:ext cx="395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4080" y="261720"/>
            <a:ext cx="8989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Isotopes of Hydrogen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499" name="Picture 7" descr="_x0014_02-03IsotopesH_L.jpg                                           00054435_x0007_for_kym                        BF5DAB71:"/>
          <p:cNvPicPr/>
          <p:nvPr/>
        </p:nvPicPr>
        <p:blipFill>
          <a:blip r:embed="rId1"/>
          <a:srcRect l="1633" t="4734" r="1307" b="14987"/>
          <a:stretch/>
        </p:blipFill>
        <p:spPr>
          <a:xfrm>
            <a:off x="146160" y="2338560"/>
            <a:ext cx="8850240" cy="21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Molecules and Compou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lecule of an element – two or more of th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ame atom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ld together by chemical bo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oxygen atoms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oxygen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lecule of a compound – two or mo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ifferent kind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atoms chemically bonded toge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hydrogen (H) and 1 oxygen (0) in water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hemical Bo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ectron shells, or energy levels, surround the nucleus of an at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onds are formed using the electrons in the outermost energy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alence shell – outermost energy level containing chemically active electr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ctet rule – except for the first shell which is full with two electrons, atoms interact in a manner to have eight electrons in their valence she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hemically Inert Element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ert elements have their outermost energy level fully occupied by electr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1" descr="_x0013_02-04Elements_L.jpg                                            00054435_x0007_for_kym                        BF5DAB71:"/>
          <p:cNvPicPr/>
          <p:nvPr/>
        </p:nvPicPr>
        <p:blipFill>
          <a:blip r:embed="rId1"/>
          <a:srcRect l="1602" t="1579" r="8723" b="69854"/>
          <a:stretch/>
        </p:blipFill>
        <p:spPr>
          <a:xfrm>
            <a:off x="608040" y="2101680"/>
            <a:ext cx="79279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hemically Reactive Element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98440" y="977400"/>
            <a:ext cx="2759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ctive elements do not have their outermost energy level fully occupied by electr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0" descr=""/>
          <p:cNvPicPr/>
          <p:nvPr/>
        </p:nvPicPr>
        <p:blipFill>
          <a:blip r:embed="rId1"/>
          <a:srcRect l="3104" t="35107" r="2364" b="4650"/>
          <a:stretch/>
        </p:blipFill>
        <p:spPr>
          <a:xfrm>
            <a:off x="3349800" y="787320"/>
            <a:ext cx="55051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Types of Chemical Bo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onic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val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Ionic Bo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re charged atom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gain/lose electron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ained electrons (neg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st electrons (posi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7" descr="_x0014_02-05IonicBond_L.jpg                                           00054435_x0007_for_kym                        BF5DAB71:"/>
          <p:cNvPicPr/>
          <p:nvPr/>
        </p:nvPicPr>
        <p:blipFill>
          <a:blip r:embed="rId1"/>
          <a:srcRect l="0" t="1955" r="0" b="48970"/>
          <a:stretch/>
        </p:blipFill>
        <p:spPr>
          <a:xfrm>
            <a:off x="357120" y="3525840"/>
            <a:ext cx="84042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Formation of an Ionic Bond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82706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onic bonds form between atoms by the transfer of one or more electr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7" descr="_x0014_02-05IonicBond_L.jpg                                           00054435_x0007_for_kym                        BF5DAB71:"/>
          <p:cNvPicPr/>
          <p:nvPr/>
        </p:nvPicPr>
        <p:blipFill>
          <a:blip r:embed="rId1"/>
          <a:srcRect l="0" t="1955" r="0" b="48970"/>
          <a:stretch/>
        </p:blipFill>
        <p:spPr>
          <a:xfrm>
            <a:off x="291960" y="3451320"/>
            <a:ext cx="87994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Ionic compounds form crystals instead of individual molecule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519" name="Picture 7" descr="_x0014_02-05IonicBond_L.jpg                                           00054435_x0007_for_kym                        BF5DAB71:"/>
          <p:cNvPicPr/>
          <p:nvPr/>
        </p:nvPicPr>
        <p:blipFill>
          <a:blip r:embed="rId1"/>
          <a:srcRect l="29361" t="52330" r="29260" b="5338"/>
          <a:stretch/>
        </p:blipFill>
        <p:spPr>
          <a:xfrm>
            <a:off x="596880" y="1216080"/>
            <a:ext cx="7331040" cy="53607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salt.bmp"/>
          <p:cNvPicPr/>
          <p:nvPr/>
        </p:nvPicPr>
        <p:blipFill>
          <a:blip r:embed="rId2"/>
          <a:stretch/>
        </p:blipFill>
        <p:spPr>
          <a:xfrm>
            <a:off x="411120" y="1984320"/>
            <a:ext cx="83757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298080" y="135000"/>
            <a:ext cx="8271000" cy="58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Imagine going to an ice cream store. Let's say that they have 30 different flavors of ice cream. Those are elements, the things that I have available to build my dessert from. The smallest amount of ice cream that the store will sell to me is a scoop. This is an atom. If I want, I can put two or more scoops of ice cream together. This is a molecule. If my molecule has more than one flavor of ice cream, I can call it a compound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Task 1. make another analogy and be sure to include the following: element, atom, molecule, compou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ovalent Bonds: formed by the sharing of two or more electrons </a:t>
            </a:r>
            <a:br>
              <a:rPr sz="3000"/>
            </a:b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522" name="Picture 7" descr="_x0014_02-07aCovBonds_L.jpg                                           00054435_x0007_for_kym                        BF5DAB71:"/>
          <p:cNvPicPr/>
          <p:nvPr/>
        </p:nvPicPr>
        <p:blipFill>
          <a:blip r:embed="rId1"/>
          <a:srcRect l="0" t="1536" r="0" b="7932"/>
          <a:stretch/>
        </p:blipFill>
        <p:spPr>
          <a:xfrm>
            <a:off x="282600" y="1407960"/>
            <a:ext cx="88614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Double Covalent Bo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524" name="Picture 7" descr="_x0016_02-07b-cCovBonds_L.jpg                                         00054435_x0007_for_kym                        BF5DAB71:"/>
          <p:cNvPicPr/>
          <p:nvPr/>
        </p:nvPicPr>
        <p:blipFill>
          <a:blip r:embed="rId1"/>
          <a:srcRect l="0" t="2214" r="0" b="54775"/>
          <a:stretch/>
        </p:blipFill>
        <p:spPr>
          <a:xfrm>
            <a:off x="200160" y="2457360"/>
            <a:ext cx="87422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Triple Covalent Bo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526" name="Picture 7" descr="_x0016_02-07b-cCovBonds_L.jpg                                         00054435_x0007_for_kym                        BF5DAB71:"/>
          <p:cNvPicPr/>
          <p:nvPr/>
        </p:nvPicPr>
        <p:blipFill>
          <a:blip r:embed="rId1"/>
          <a:srcRect l="1050" t="48313" r="0" b="7177"/>
          <a:stretch/>
        </p:blipFill>
        <p:spPr>
          <a:xfrm>
            <a:off x="174600" y="2408400"/>
            <a:ext cx="8794800" cy="20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Polar and Nonpolar Molecule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ectrons shar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qual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tween atoms produc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pol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olec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equ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haring of electrons produc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ol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olec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oms with 6 or 7 valence shel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ctr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ga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ttract 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oms with 1 or 2 valence shel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ctroposit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lo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omparison of Ionic, Polar Covalent, and Nonpolar Covalent Bo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531" name="Picture 9" descr="_x0013_02-09BondComp_L.jpg                                            00054435_x0007_for_kym                        BF5DAB71:"/>
          <p:cNvPicPr/>
          <p:nvPr/>
        </p:nvPicPr>
        <p:blipFill>
          <a:blip r:embed="rId1"/>
          <a:srcRect l="9750" t="1775" r="9109" b="6075"/>
          <a:stretch/>
        </p:blipFill>
        <p:spPr>
          <a:xfrm>
            <a:off x="374760" y="1143000"/>
            <a:ext cx="3273480" cy="5322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"/>
          <p:cNvPicPr/>
          <p:nvPr/>
        </p:nvPicPr>
        <p:blipFill>
          <a:blip r:embed="rId2"/>
          <a:stretch/>
        </p:blipFill>
        <p:spPr>
          <a:xfrm>
            <a:off x="3870360" y="1414440"/>
            <a:ext cx="51386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Hydrogen Bo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8440" y="977400"/>
            <a:ext cx="50846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o weak to bind atoms toge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on in dipoles such as wa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ponsible for surface tension in wa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ortant a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ramolecul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onds, giving the molecule a three-dimensional sha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7" descr="_x0016_02-10HBondPWater_L.jpg                                         00054435_x0007_for_kym                        BF5DAB71:"/>
          <p:cNvPicPr/>
          <p:nvPr/>
        </p:nvPicPr>
        <p:blipFill>
          <a:blip r:embed="rId1"/>
          <a:srcRect l="0" t="0" r="51154" b="6701"/>
          <a:stretch/>
        </p:blipFill>
        <p:spPr>
          <a:xfrm>
            <a:off x="5073480" y="942840"/>
            <a:ext cx="39006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hemical Reaction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98440" y="977400"/>
            <a:ext cx="405936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bonds are formed, rearranged, or b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500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and typ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a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500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amounts of reactants an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3" descr="&#10;Slide1.jpg                                                     0004DAA4_x000c_Macintosh HD                   ABA78158:"/>
          <p:cNvPicPr/>
          <p:nvPr/>
        </p:nvPicPr>
        <p:blipFill>
          <a:blip r:embed="rId1"/>
          <a:stretch/>
        </p:blipFill>
        <p:spPr>
          <a:xfrm>
            <a:off x="4510080" y="2744640"/>
            <a:ext cx="40593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Patterns of Chemical Reaction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69200" indent="-1692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bination reactions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ynthesis reactions which always involve bond 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+  B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200" indent="-1692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omposition reactions:  Molecules are broken down into smaller molecule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+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200" indent="-16920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hange reactions:  Bonds are both made and br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spcAft>
                <a:spcPts val="17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  +  C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C  +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200"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69200"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spcAft>
                <a:spcPts val="18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26172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Factors Influencing Rate of Chemical Reaction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mperature – chemical reactions proceed quicker at higher temperat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cle size – the smaller the particle the faster the chemical re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centration – higher reacting particle concentrations produce faster rea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talysts – increase the rate of a reaction without being chemically chang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zymes – biological cataly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Mixtures: two or more components physically intermixed (not chemically bonded)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760" y="1531440"/>
            <a:ext cx="51912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homogeneous mixtures of compon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lloi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mulsions) - heterogeneous mixtures solutes do not settle o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spension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heterogeneous mixtures with visible solutes that tend to settle o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blood_suspension.jpg"/>
          <p:cNvPicPr/>
          <p:nvPr/>
        </p:nvPicPr>
        <p:blipFill>
          <a:blip r:embed="rId1"/>
          <a:stretch/>
        </p:blipFill>
        <p:spPr>
          <a:xfrm>
            <a:off x="6508800" y="1300320"/>
            <a:ext cx="1695240" cy="4552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olloids.jpg"/>
          <p:cNvPicPr/>
          <p:nvPr/>
        </p:nvPicPr>
        <p:blipFill>
          <a:blip r:embed="rId2"/>
          <a:stretch/>
        </p:blipFill>
        <p:spPr>
          <a:xfrm>
            <a:off x="5700600" y="2195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chemicals1.jpg"/>
          <p:cNvPicPr/>
          <p:nvPr/>
        </p:nvPicPr>
        <p:blipFill>
          <a:blip r:embed="rId3"/>
          <a:stretch/>
        </p:blipFill>
        <p:spPr>
          <a:xfrm>
            <a:off x="5627520" y="2449440"/>
            <a:ext cx="31816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Composition of Matter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98440" y="977400"/>
            <a:ext cx="405936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– unique substances that cannot be broken down by ordinary chemical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480" indent="-22248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s – more-or-less identical building blocks for each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480" indent="-22248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symbol – one- or two-letter chemical shorthand for each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Content Placeholder 4" descr="periodic_table.gif"/>
          <p:cNvPicPr/>
          <p:nvPr/>
        </p:nvPicPr>
        <p:blipFill>
          <a:blip r:embed="rId1"/>
          <a:stretch/>
        </p:blipFill>
        <p:spPr>
          <a:xfrm>
            <a:off x="4510080" y="1825560"/>
            <a:ext cx="40593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Mixtures Compared with Compound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8080" y="977400"/>
            <a:ext cx="8271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chemical bonding takes place in mixt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mixtures can be separated by physical means, compounds can 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xtures can be heterogeneous or homogeneous, compounds are homogeneo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Major Elements of the Human Body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477" name="Content Placeholder 4" descr="elements.bmp"/>
          <p:cNvPicPr/>
          <p:nvPr/>
        </p:nvPicPr>
        <p:blipFill>
          <a:blip r:embed="rId1"/>
          <a:srcRect l="0" t="4981" r="0" b="64216"/>
          <a:stretch/>
        </p:blipFill>
        <p:spPr>
          <a:xfrm>
            <a:off x="101520" y="1841400"/>
            <a:ext cx="8974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3" descr="elements.bmp"/>
          <p:cNvPicPr/>
          <p:nvPr/>
        </p:nvPicPr>
        <p:blipFill>
          <a:blip r:embed="rId1"/>
          <a:srcRect l="0" t="35253" r="0" b="5424"/>
          <a:stretch/>
        </p:blipFill>
        <p:spPr>
          <a:xfrm>
            <a:off x="372960" y="747720"/>
            <a:ext cx="8383680" cy="57564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560" y="26172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Lesser and Trace Elements of the Human Body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Atomic Structure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6584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nucleus consists of neutrons and prot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ns – have a positive charge and a mass of 1 atomic mass unit (am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ns – have no charge and a mass of 1 a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874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ectrons are found orbiting the nucle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s – have a negative charge and 1/2000 the mass of a proton (0 am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8" descr="_x000f_02-01Atom_L.jpg                                                00054435_x0007_for_kym                        BF5DAB71:"/>
          <p:cNvPicPr/>
          <p:nvPr/>
        </p:nvPicPr>
        <p:blipFill>
          <a:blip r:embed="rId1"/>
          <a:srcRect l="43745" t="74231" r="29327" b="16966"/>
          <a:stretch/>
        </p:blipFill>
        <p:spPr>
          <a:xfrm>
            <a:off x="7224840" y="5100480"/>
            <a:ext cx="1546200" cy="552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_x000f_02-01Atom_L.jpg                                                00054435_x0007_for_kym                        BF5DAB71:"/>
          <p:cNvPicPr/>
          <p:nvPr/>
        </p:nvPicPr>
        <p:blipFill>
          <a:blip r:embed="rId2"/>
          <a:srcRect l="15230" t="74231" r="60850" b="8127"/>
          <a:stretch/>
        </p:blipFill>
        <p:spPr>
          <a:xfrm>
            <a:off x="6888240" y="2084400"/>
            <a:ext cx="1598400" cy="11095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5"/>
          <p:cNvSpPr/>
          <p:nvPr/>
        </p:nvSpPr>
        <p:spPr>
          <a:xfrm>
            <a:off x="7005600" y="216360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7313760" y="5149800"/>
            <a:ext cx="3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676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Models of the Atom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98080" y="977400"/>
            <a:ext cx="34369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ary Model – electrons move around the nucleus in fixed, circular or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bital Model – regions around the nucleus in which electrons are most likely to b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8" descr="_x000f_02-01Atom_L.jpg                                                00054435_x0007_for_kym                        BF5DAB71:"/>
          <p:cNvPicPr/>
          <p:nvPr/>
        </p:nvPicPr>
        <p:blipFill>
          <a:blip r:embed="rId1"/>
          <a:srcRect l="2847" t="2829" r="1890" b="8127"/>
          <a:stretch/>
        </p:blipFill>
        <p:spPr>
          <a:xfrm>
            <a:off x="3494160" y="1030320"/>
            <a:ext cx="5649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Atomic Structure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pic>
        <p:nvPicPr>
          <p:cNvPr id="490" name="Picture 7" descr="_x0016_02-02ThreeSAtoms_L.jpg                                         00054435_x0007_for_kym                        BF5DAB71:"/>
          <p:cNvPicPr/>
          <p:nvPr/>
        </p:nvPicPr>
        <p:blipFill>
          <a:blip r:embed="rId1"/>
          <a:srcRect l="1310" t="3919" r="1310" b="11795"/>
          <a:stretch/>
        </p:blipFill>
        <p:spPr>
          <a:xfrm>
            <a:off x="243000" y="2075040"/>
            <a:ext cx="8656560" cy="2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89c9"/>
                </a:solidFill>
                <a:latin typeface="Arial"/>
              </a:rPr>
              <a:t>Identification of Elements</a:t>
            </a:r>
            <a:endParaRPr b="1" lang="en-US" sz="3000" spc="-1" strike="noStrike">
              <a:solidFill>
                <a:srgbClr val="0989c9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98440" y="977400"/>
            <a:ext cx="405936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Z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equal to the number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Mass number (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equal to the mass of the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protons and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Aft>
                <a:spcPts val="1749"/>
              </a:spcAft>
              <a:buClr>
                <a:srgbClr val="0989c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weight – average of the mass numbers of all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Content Placeholder 5" descr="isotopes.jpg"/>
          <p:cNvPicPr/>
          <p:nvPr/>
        </p:nvPicPr>
        <p:blipFill>
          <a:blip r:embed="rId1"/>
          <a:srcRect l="2295" t="51719" r="3051" b="2614"/>
          <a:stretch/>
        </p:blipFill>
        <p:spPr>
          <a:xfrm>
            <a:off x="5267160" y="3567240"/>
            <a:ext cx="2524320" cy="1636560"/>
          </a:xfrm>
          <a:prstGeom prst="rect">
            <a:avLst/>
          </a:prstGeom>
          <a:ln w="0">
            <a:noFill/>
          </a:ln>
        </p:spPr>
      </p:pic>
      <p:pic>
        <p:nvPicPr>
          <p:cNvPr id="494" name="Content Placeholder 5" descr="isotopes.jpg"/>
          <p:cNvPicPr/>
          <p:nvPr/>
        </p:nvPicPr>
        <p:blipFill>
          <a:blip r:embed="rId2"/>
          <a:srcRect l="931" t="3951" r="52727" b="46793"/>
          <a:stretch/>
        </p:blipFill>
        <p:spPr>
          <a:xfrm>
            <a:off x="6091200" y="1352520"/>
            <a:ext cx="12366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6:42:31Z</dcterms:created>
  <dc:creator>gtk</dc:creator>
  <dc:description/>
  <dc:language>en-US</dc:language>
  <cp:lastModifiedBy>Sean</cp:lastModifiedBy>
  <dcterms:modified xsi:type="dcterms:W3CDTF">2016-10-31T18:21:32Z</dcterms:modified>
  <cp:revision>237</cp:revision>
  <dc:subject/>
  <dc:title>2a</dc:title>
</cp:coreProperties>
</file>